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AD34-F82E-4117-9D63-359E1466B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Times New Roman"/>
              </a:rPr>
              <a:t>Software Tools for Sequence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Times New Roman"/>
              </a:rPr>
              <a:t>WWW resources: Database Similarity Search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blast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(an 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NCBI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tool ) is by far the most popular database searching tool. It is offered by very many sites all over the world. 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blast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compares sequences in a way that sacrifices much sensitivity for speed. Crude thought the comparisons are, they are good enough for most purposes. To try out 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blast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and/or to discover more, se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http://www.ncbi.nlm.nih.gov/BLAST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blast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software can be obtained by anonymous ftp from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ftp://ftp.ncbi.nih.gov/blast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fasta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(William Pearson, University of Virginia) is an older slower program, still widely used. It also employs an algorithm that goes for speed rather than sensitivity. 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fasta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is available at many site as a WWW resource, including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http://www.ebi.ac.uk/fasta33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fasta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package can by obtained by anonymous ftp and/or run a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http://fasta.bioch.virginia.edu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oth 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blast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fasta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can compare DNA/protein sequences with DNA/protein sequence databases in any combination. For mixed searches, comparisons are always computed at the protein level (i.e. the DNA element is translated in all reading frames before comparison). When a DNA query sequence is compared with a DNA database, comparison can either be at the base pair level or after both query sequence and database entry are translated in all reading fram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Both 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blast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fasta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are incorporated into the 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general packag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Software Tools for Sequence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WWW resources: Database Similarity Sear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Psrch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is an example of a fully sensitive database search program. It is only sensible to compare protein against protein using such a tool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Psrch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uses the most sensitive algorithms to compare sequences and is thus potentially very slow in comparison with either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last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ast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The lack of speed is compensated by implementing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Psrch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on very powerful multi-processor computers. The requirement for such specialised computers makes it impractical to implement for most sites. For more information, and/or to run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Psrch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s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http://www.ebi.ac.uk/MPsrch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t of the time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last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ast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generate results that are sufficient.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Psrch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is most useful on the occasions where the faster options find no good mat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1121-AAE8-4B61-9267-A4B1AC19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BAE7-C980-4FE9-A809-676962ED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039E-A52D-4325-B27D-D0144083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036B-6EEC-4AE7-8D8E-8F531232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95F0-16A6-4C55-AEF5-9876220B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BB31-A554-4DDC-93D7-B9660533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83C-18B9-460C-B504-57CA5EF6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A73F-4085-4A16-B941-FF4D833F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45AB-5532-4F7B-846D-D75DD4D6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4A1-617C-49D2-9FBD-D7F5F0A7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309-065E-4F85-A597-F54B6393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1BD3-09F8-4141-91B4-745A8E9B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5E13-DF28-45AF-9F48-63E650FFB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bi.ac.uk/fasta33/" TargetMode="External"/><Relationship Id="rId3" Type="http://schemas.openxmlformats.org/officeDocument/2006/relationships/hyperlink" Target="ftp://ftp.ncbi.nih.gov/blast/" TargetMode="External"/><Relationship Id="rId4" Type="http://schemas.openxmlformats.org/officeDocument/2006/relationships/hyperlink" Target="ftp://ftp.virginia.edu/pub/fasta/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ncbi.nlm.nih.gov/BLAST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bi.ac.uk/MPsrch/index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13280" y="-100080"/>
            <a:ext cx="57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ftware Tools for Seque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920" y="549360"/>
            <a:ext cx="2863800" cy="7038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abase Similarity Sear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03800" y="539640"/>
            <a:ext cx="227628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WW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43820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9933"/>
                </a:solidFill>
                <a:latin typeface="Arial"/>
              </a:rPr>
              <a:t>Very popular, very widely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2590920"/>
            <a:ext cx="3021480" cy="733320"/>
            <a:chOff x="0" y="2590920"/>
            <a:chExt cx="3021480" cy="7333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0" y="2590920"/>
              <a:ext cx="1638360" cy="7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530000" y="2667240"/>
              <a:ext cx="1491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 u="sng">
                  <a:solidFill>
                    <a:srgbClr val="ccccff"/>
                  </a:solidFill>
                  <a:uFillTx/>
                  <a:latin typeface="Arial"/>
                  <a:hlinkClick r:id="rId2"/>
                </a:rPr>
                <a:t>FAS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598920" y="1978200"/>
            <a:ext cx="39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9933"/>
                </a:solidFill>
                <a:latin typeface="Arial"/>
              </a:rPr>
              <a:t>Not sensitive – But  extremely f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98920" y="5316480"/>
            <a:ext cx="47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NA/Protein query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DNA/Prote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02520" y="4776840"/>
            <a:ext cx="42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Arial"/>
              </a:rPr>
              <a:t>Available by anonymous ftp (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blast</a:t>
            </a:r>
            <a:r>
              <a:rPr b="0" lang="en-GB" sz="1800" spc="-1" strike="noStrike">
                <a:solidFill>
                  <a:srgbClr val="ff0066"/>
                </a:solidFill>
                <a:latin typeface="Arial"/>
              </a:rPr>
              <a:t>,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fasta</a:t>
            </a:r>
            <a:r>
              <a:rPr b="0" lang="en-GB" sz="18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2698920"/>
            <a:ext cx="28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9933"/>
                </a:solidFill>
                <a:latin typeface="Arial"/>
              </a:rPr>
              <a:t>Popular, widely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98920" y="3238560"/>
            <a:ext cx="43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9933"/>
                </a:solidFill>
                <a:latin typeface="Arial"/>
              </a:rPr>
              <a:t>Not sensitive – much slower than b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5856120"/>
            <a:ext cx="46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9933"/>
                </a:solidFill>
                <a:latin typeface="Arial"/>
              </a:rPr>
              <a:t>Incorporated into the GCG general pa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03960" y="4237200"/>
            <a:ext cx="499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an be installed locally or run via a WWW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1395360"/>
            <a:ext cx="3017160" cy="714240"/>
            <a:chOff x="0" y="1395360"/>
            <a:chExt cx="3017160" cy="714240"/>
          </a:xfrm>
        </p:grpSpPr>
        <p:grpSp>
          <p:nvGrpSpPr>
            <p:cNvPr id="63" name=""/>
            <p:cNvGrpSpPr/>
            <p:nvPr/>
          </p:nvGrpSpPr>
          <p:grpSpPr>
            <a:xfrm>
              <a:off x="0" y="1395360"/>
              <a:ext cx="3017160" cy="714240"/>
              <a:chOff x="0" y="1395360"/>
              <a:chExt cx="3017160" cy="714240"/>
            </a:xfrm>
          </p:grpSpPr>
          <p:pic>
            <p:nvPicPr>
              <p:cNvPr id="6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2400" y="1509480"/>
                <a:ext cx="1904760" cy="48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1395360"/>
                <a:ext cx="1076040" cy="714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" name="">
              <a:hlinkClick r:id="rId7"/>
            </p:cNvPr>
            <p:cNvSpPr/>
            <p:nvPr/>
          </p:nvSpPr>
          <p:spPr>
            <a:xfrm>
              <a:off x="80640" y="1433160"/>
              <a:ext cx="285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-360" y="4916520"/>
            <a:ext cx="312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BOTH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blast &amp; fa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457200" y="2743200"/>
            <a:ext cx="7696080" cy="685800"/>
            <a:chOff x="457200" y="2743200"/>
            <a:chExt cx="7696080" cy="685800"/>
          </a:xfrm>
        </p:grpSpPr>
        <p:sp>
          <p:nvSpPr>
            <p:cNvPr id="69" name=""/>
            <p:cNvSpPr/>
            <p:nvPr/>
          </p:nvSpPr>
          <p:spPr>
            <a:xfrm>
              <a:off x="5943600" y="2743200"/>
              <a:ext cx="685800" cy="0"/>
            </a:xfrm>
            <a:prstGeom prst="line">
              <a:avLst/>
            </a:prstGeom>
            <a:ln cap="rnd" w="60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14800" y="3429000"/>
              <a:ext cx="457200" cy="0"/>
            </a:xfrm>
            <a:prstGeom prst="line">
              <a:avLst/>
            </a:prstGeom>
            <a:ln cap="rnd" w="60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7200" y="2743200"/>
              <a:ext cx="137160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15200" y="2743200"/>
              <a:ext cx="68580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38680" y="2743200"/>
              <a:ext cx="60984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52680" y="2743200"/>
              <a:ext cx="114300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77120" y="2743200"/>
              <a:ext cx="838080" cy="0"/>
            </a:xfrm>
            <a:prstGeom prst="line">
              <a:avLst/>
            </a:prstGeom>
            <a:ln w="127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95680" y="2743200"/>
              <a:ext cx="1143000" cy="0"/>
            </a:xfrm>
            <a:prstGeom prst="line">
              <a:avLst/>
            </a:prstGeom>
            <a:ln w="127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28800" y="2743200"/>
              <a:ext cx="1523880" cy="0"/>
            </a:xfrm>
            <a:prstGeom prst="line">
              <a:avLst/>
            </a:prstGeom>
            <a:ln w="127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315200" y="3429000"/>
              <a:ext cx="83808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52680" y="3429000"/>
              <a:ext cx="99072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38680" y="3429000"/>
              <a:ext cx="83844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95680" y="3429000"/>
              <a:ext cx="1143000" cy="0"/>
            </a:xfrm>
            <a:prstGeom prst="line">
              <a:avLst/>
            </a:prstGeom>
            <a:ln w="127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77120" y="3429000"/>
              <a:ext cx="838080" cy="0"/>
            </a:xfrm>
            <a:prstGeom prst="line">
              <a:avLst/>
            </a:prstGeom>
            <a:ln w="127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" y="3429000"/>
              <a:ext cx="83808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28800" y="3429000"/>
              <a:ext cx="1523880" cy="0"/>
            </a:xfrm>
            <a:prstGeom prst="line">
              <a:avLst/>
            </a:prstGeom>
            <a:ln w="127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19320" y="3429000"/>
              <a:ext cx="685800" cy="0"/>
            </a:xfrm>
            <a:prstGeom prst="line">
              <a:avLst/>
            </a:prstGeom>
            <a:ln cap="rnd" w="60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57200" y="457200"/>
            <a:ext cx="7315200" cy="685800"/>
            <a:chOff x="457200" y="457200"/>
            <a:chExt cx="7315200" cy="685800"/>
          </a:xfrm>
        </p:grpSpPr>
        <p:grpSp>
          <p:nvGrpSpPr>
            <p:cNvPr id="87" name=""/>
            <p:cNvGrpSpPr/>
            <p:nvPr/>
          </p:nvGrpSpPr>
          <p:grpSpPr>
            <a:xfrm>
              <a:off x="457200" y="457200"/>
              <a:ext cx="7315200" cy="0"/>
              <a:chOff x="457200" y="457200"/>
              <a:chExt cx="7315200" cy="0"/>
            </a:xfrm>
          </p:grpSpPr>
          <p:sp>
            <p:nvSpPr>
              <p:cNvPr id="88" name=""/>
              <p:cNvSpPr/>
              <p:nvPr/>
            </p:nvSpPr>
            <p:spPr>
              <a:xfrm>
                <a:off x="457200" y="457200"/>
                <a:ext cx="137160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086600" y="457200"/>
                <a:ext cx="68580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638680" y="457200"/>
                <a:ext cx="60984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352680" y="457200"/>
                <a:ext cx="114300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248520" y="457200"/>
                <a:ext cx="838080" cy="0"/>
              </a:xfrm>
              <a:prstGeom prst="line">
                <a:avLst/>
              </a:prstGeom>
              <a:ln w="127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495680" y="457200"/>
                <a:ext cx="1143000" cy="0"/>
              </a:xfrm>
              <a:prstGeom prst="line">
                <a:avLst/>
              </a:prstGeom>
              <a:ln w="127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28800" y="457200"/>
                <a:ext cx="1523880" cy="0"/>
              </a:xfrm>
              <a:prstGeom prst="line">
                <a:avLst/>
              </a:prstGeom>
              <a:ln w="127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57200" y="1143000"/>
              <a:ext cx="7009920" cy="0"/>
              <a:chOff x="457200" y="1143000"/>
              <a:chExt cx="7009920" cy="0"/>
            </a:xfrm>
          </p:grpSpPr>
          <p:sp>
            <p:nvSpPr>
              <p:cNvPr id="96" name=""/>
              <p:cNvSpPr/>
              <p:nvPr/>
            </p:nvSpPr>
            <p:spPr>
              <a:xfrm>
                <a:off x="6629040" y="1143000"/>
                <a:ext cx="83808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819160" y="1143000"/>
                <a:ext cx="99036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2880" y="1143000"/>
                <a:ext cx="83772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809880" y="1143000"/>
                <a:ext cx="1142640" cy="0"/>
              </a:xfrm>
              <a:prstGeom prst="line">
                <a:avLst/>
              </a:prstGeom>
              <a:ln w="127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790960" y="1143000"/>
                <a:ext cx="837720" cy="0"/>
              </a:xfrm>
              <a:prstGeom prst="line">
                <a:avLst/>
              </a:prstGeom>
              <a:ln w="127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57200" y="1143000"/>
                <a:ext cx="83808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295280" y="1143000"/>
                <a:ext cx="1523520" cy="0"/>
              </a:xfrm>
              <a:prstGeom prst="line">
                <a:avLst/>
              </a:prstGeom>
              <a:ln w="127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8431560" y="2809800"/>
            <a:ext cx="40032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457200" y="457200"/>
            <a:ext cx="7315200" cy="685800"/>
            <a:chOff x="457200" y="457200"/>
            <a:chExt cx="7315200" cy="685800"/>
          </a:xfrm>
        </p:grpSpPr>
        <p:grpSp>
          <p:nvGrpSpPr>
            <p:cNvPr id="105" name=""/>
            <p:cNvGrpSpPr/>
            <p:nvPr/>
          </p:nvGrpSpPr>
          <p:grpSpPr>
            <a:xfrm>
              <a:off x="457200" y="457200"/>
              <a:ext cx="7315200" cy="0"/>
              <a:chOff x="457200" y="457200"/>
              <a:chExt cx="7315200" cy="0"/>
            </a:xfrm>
          </p:grpSpPr>
          <p:sp>
            <p:nvSpPr>
              <p:cNvPr id="106" name=""/>
              <p:cNvSpPr/>
              <p:nvPr/>
            </p:nvSpPr>
            <p:spPr>
              <a:xfrm>
                <a:off x="457200" y="457200"/>
                <a:ext cx="137160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086600" y="457200"/>
                <a:ext cx="68580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638680" y="457200"/>
                <a:ext cx="60984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352680" y="457200"/>
                <a:ext cx="114300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248520" y="457200"/>
                <a:ext cx="838080" cy="0"/>
              </a:xfrm>
              <a:prstGeom prst="line">
                <a:avLst/>
              </a:prstGeom>
              <a:ln w="127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495680" y="457200"/>
                <a:ext cx="1143000" cy="0"/>
              </a:xfrm>
              <a:prstGeom prst="line">
                <a:avLst/>
              </a:prstGeom>
              <a:ln w="127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828800" y="457200"/>
                <a:ext cx="1523880" cy="0"/>
              </a:xfrm>
              <a:prstGeom prst="line">
                <a:avLst/>
              </a:prstGeom>
              <a:ln w="127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57200" y="1143000"/>
              <a:ext cx="7009920" cy="0"/>
              <a:chOff x="457200" y="1143000"/>
              <a:chExt cx="7009920" cy="0"/>
            </a:xfrm>
          </p:grpSpPr>
          <p:sp>
            <p:nvSpPr>
              <p:cNvPr id="114" name=""/>
              <p:cNvSpPr/>
              <p:nvPr/>
            </p:nvSpPr>
            <p:spPr>
              <a:xfrm>
                <a:off x="6629040" y="1143000"/>
                <a:ext cx="83808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819160" y="1143000"/>
                <a:ext cx="99036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952880" y="1143000"/>
                <a:ext cx="83772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09880" y="1143000"/>
                <a:ext cx="1142640" cy="0"/>
              </a:xfrm>
              <a:prstGeom prst="line">
                <a:avLst/>
              </a:prstGeom>
              <a:ln w="127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90960" y="1143000"/>
                <a:ext cx="837720" cy="0"/>
              </a:xfrm>
              <a:prstGeom prst="line">
                <a:avLst/>
              </a:prstGeom>
              <a:ln w="127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7200" y="1143000"/>
                <a:ext cx="83808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295280" y="1143000"/>
                <a:ext cx="1523520" cy="0"/>
              </a:xfrm>
              <a:prstGeom prst="line">
                <a:avLst/>
              </a:prstGeom>
              <a:ln w="127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" name=""/>
          <p:cNvGrpSpPr/>
          <p:nvPr/>
        </p:nvGrpSpPr>
        <p:grpSpPr>
          <a:xfrm>
            <a:off x="457200" y="3479760"/>
            <a:ext cx="7543440" cy="685800"/>
            <a:chOff x="457200" y="3479760"/>
            <a:chExt cx="7543440" cy="685800"/>
          </a:xfrm>
        </p:grpSpPr>
        <p:grpSp>
          <p:nvGrpSpPr>
            <p:cNvPr id="122" name=""/>
            <p:cNvGrpSpPr/>
            <p:nvPr/>
          </p:nvGrpSpPr>
          <p:grpSpPr>
            <a:xfrm>
              <a:off x="457200" y="3479760"/>
              <a:ext cx="7315200" cy="0"/>
              <a:chOff x="457200" y="3479760"/>
              <a:chExt cx="7315200" cy="0"/>
            </a:xfrm>
          </p:grpSpPr>
          <p:sp>
            <p:nvSpPr>
              <p:cNvPr id="123" name=""/>
              <p:cNvSpPr/>
              <p:nvPr/>
            </p:nvSpPr>
            <p:spPr>
              <a:xfrm>
                <a:off x="457200" y="3479760"/>
                <a:ext cx="137160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86600" y="3479760"/>
                <a:ext cx="68580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638680" y="3479760"/>
                <a:ext cx="60984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352680" y="3479760"/>
                <a:ext cx="114300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248520" y="3479760"/>
                <a:ext cx="838080" cy="0"/>
              </a:xfrm>
              <a:prstGeom prst="line">
                <a:avLst/>
              </a:prstGeom>
              <a:ln w="127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495680" y="3479760"/>
                <a:ext cx="1143000" cy="0"/>
              </a:xfrm>
              <a:prstGeom prst="line">
                <a:avLst/>
              </a:prstGeom>
              <a:ln w="127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828800" y="3479760"/>
                <a:ext cx="1523880" cy="0"/>
              </a:xfrm>
              <a:prstGeom prst="line">
                <a:avLst/>
              </a:prstGeom>
              <a:ln w="127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990720" y="4165560"/>
              <a:ext cx="7009920" cy="0"/>
              <a:chOff x="990720" y="4165560"/>
              <a:chExt cx="7009920" cy="0"/>
            </a:xfrm>
          </p:grpSpPr>
          <p:sp>
            <p:nvSpPr>
              <p:cNvPr id="131" name=""/>
              <p:cNvSpPr/>
              <p:nvPr/>
            </p:nvSpPr>
            <p:spPr>
              <a:xfrm>
                <a:off x="7162560" y="4165560"/>
                <a:ext cx="83808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352680" y="4165560"/>
                <a:ext cx="99036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486400" y="4165560"/>
                <a:ext cx="83772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43400" y="4165560"/>
                <a:ext cx="1142640" cy="0"/>
              </a:xfrm>
              <a:prstGeom prst="line">
                <a:avLst/>
              </a:prstGeom>
              <a:ln w="127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324480" y="4165560"/>
                <a:ext cx="837720" cy="0"/>
              </a:xfrm>
              <a:prstGeom prst="line">
                <a:avLst/>
              </a:prstGeom>
              <a:ln w="127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990720" y="4165560"/>
                <a:ext cx="83808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28800" y="4165560"/>
                <a:ext cx="1523520" cy="0"/>
              </a:xfrm>
              <a:prstGeom prst="line">
                <a:avLst/>
              </a:prstGeom>
              <a:ln w="127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1828800" y="3479760"/>
              <a:ext cx="1523520" cy="685440"/>
              <a:chOff x="1828800" y="3479760"/>
              <a:chExt cx="1523520" cy="685440"/>
            </a:xfrm>
          </p:grpSpPr>
          <p:sp>
            <p:nvSpPr>
              <p:cNvPr id="139" name=""/>
              <p:cNvSpPr/>
              <p:nvPr/>
            </p:nvSpPr>
            <p:spPr>
              <a:xfrm>
                <a:off x="1828800" y="34797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352320" y="34797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521080" y="34797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457200" y="2158920"/>
            <a:ext cx="7467120" cy="685800"/>
            <a:chOff x="457200" y="2158920"/>
            <a:chExt cx="7467120" cy="685800"/>
          </a:xfrm>
        </p:grpSpPr>
        <p:grpSp>
          <p:nvGrpSpPr>
            <p:cNvPr id="143" name=""/>
            <p:cNvGrpSpPr/>
            <p:nvPr/>
          </p:nvGrpSpPr>
          <p:grpSpPr>
            <a:xfrm>
              <a:off x="457200" y="2158920"/>
              <a:ext cx="7315200" cy="0"/>
              <a:chOff x="457200" y="2158920"/>
              <a:chExt cx="7315200" cy="0"/>
            </a:xfrm>
          </p:grpSpPr>
          <p:sp>
            <p:nvSpPr>
              <p:cNvPr id="144" name=""/>
              <p:cNvSpPr/>
              <p:nvPr/>
            </p:nvSpPr>
            <p:spPr>
              <a:xfrm>
                <a:off x="457200" y="2158920"/>
                <a:ext cx="137160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086600" y="2158920"/>
                <a:ext cx="68580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638680" y="2158920"/>
                <a:ext cx="60984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352680" y="2158920"/>
                <a:ext cx="114300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248520" y="2158920"/>
                <a:ext cx="838080" cy="0"/>
              </a:xfrm>
              <a:prstGeom prst="line">
                <a:avLst/>
              </a:prstGeom>
              <a:ln w="127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95680" y="2158920"/>
                <a:ext cx="1143000" cy="0"/>
              </a:xfrm>
              <a:prstGeom prst="line">
                <a:avLst/>
              </a:prstGeom>
              <a:ln w="127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28800" y="2158920"/>
                <a:ext cx="1523880" cy="0"/>
              </a:xfrm>
              <a:prstGeom prst="line">
                <a:avLst/>
              </a:prstGeom>
              <a:ln w="127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914400" y="2844720"/>
              <a:ext cx="7009920" cy="0"/>
              <a:chOff x="914400" y="2844720"/>
              <a:chExt cx="7009920" cy="0"/>
            </a:xfrm>
          </p:grpSpPr>
          <p:sp>
            <p:nvSpPr>
              <p:cNvPr id="152" name=""/>
              <p:cNvSpPr/>
              <p:nvPr/>
            </p:nvSpPr>
            <p:spPr>
              <a:xfrm>
                <a:off x="7086240" y="2844720"/>
                <a:ext cx="83808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276360" y="2844720"/>
                <a:ext cx="99036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10080" y="2844720"/>
                <a:ext cx="83772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267080" y="2844720"/>
                <a:ext cx="1142640" cy="0"/>
              </a:xfrm>
              <a:prstGeom prst="line">
                <a:avLst/>
              </a:prstGeom>
              <a:ln w="127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48160" y="2844720"/>
                <a:ext cx="837720" cy="0"/>
              </a:xfrm>
              <a:prstGeom prst="line">
                <a:avLst/>
              </a:prstGeom>
              <a:ln w="127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14400" y="2844720"/>
                <a:ext cx="83808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752480" y="2844720"/>
                <a:ext cx="1523520" cy="0"/>
              </a:xfrm>
              <a:prstGeom prst="line">
                <a:avLst/>
              </a:prstGeom>
              <a:ln w="127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6248520" y="2158920"/>
              <a:ext cx="838080" cy="685440"/>
              <a:chOff x="6248520" y="2158920"/>
              <a:chExt cx="838080" cy="685440"/>
            </a:xfrm>
          </p:grpSpPr>
          <p:sp>
            <p:nvSpPr>
              <p:cNvPr id="160" name=""/>
              <p:cNvSpPr/>
              <p:nvPr/>
            </p:nvSpPr>
            <p:spPr>
              <a:xfrm>
                <a:off x="6248520" y="215892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086600" y="215892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29400" y="215892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457200" y="4800600"/>
            <a:ext cx="7696080" cy="685800"/>
            <a:chOff x="457200" y="4800600"/>
            <a:chExt cx="7696080" cy="685800"/>
          </a:xfrm>
        </p:grpSpPr>
        <p:sp>
          <p:nvSpPr>
            <p:cNvPr id="164" name=""/>
            <p:cNvSpPr/>
            <p:nvPr/>
          </p:nvSpPr>
          <p:spPr>
            <a:xfrm>
              <a:off x="457200" y="4800600"/>
              <a:ext cx="137160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86600" y="4800600"/>
              <a:ext cx="68580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38680" y="4800600"/>
              <a:ext cx="60984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4800600"/>
              <a:ext cx="114300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48520" y="4800600"/>
              <a:ext cx="838080" cy="0"/>
            </a:xfrm>
            <a:prstGeom prst="line">
              <a:avLst/>
            </a:prstGeom>
            <a:ln w="127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95680" y="4800600"/>
              <a:ext cx="1143000" cy="0"/>
            </a:xfrm>
            <a:prstGeom prst="line">
              <a:avLst/>
            </a:prstGeom>
            <a:ln w="127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8800" y="4800600"/>
              <a:ext cx="1523880" cy="0"/>
            </a:xfrm>
            <a:prstGeom prst="line">
              <a:avLst/>
            </a:prstGeom>
            <a:ln w="127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15200" y="5486400"/>
              <a:ext cx="83808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05320" y="5486400"/>
              <a:ext cx="99036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38680" y="5486400"/>
              <a:ext cx="83844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95680" y="5486400"/>
              <a:ext cx="1143000" cy="0"/>
            </a:xfrm>
            <a:prstGeom prst="line">
              <a:avLst/>
            </a:prstGeom>
            <a:ln w="127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77120" y="5486400"/>
              <a:ext cx="838080" cy="0"/>
            </a:xfrm>
            <a:prstGeom prst="line">
              <a:avLst/>
            </a:prstGeom>
            <a:ln w="127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43000" y="5486400"/>
              <a:ext cx="83808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5486400"/>
              <a:ext cx="1524240" cy="0"/>
            </a:xfrm>
            <a:prstGeom prst="line">
              <a:avLst/>
            </a:prstGeom>
            <a:ln w="127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495680" y="4800600"/>
              <a:ext cx="1142640" cy="685440"/>
              <a:chOff x="4495680" y="4800600"/>
              <a:chExt cx="1142640" cy="685440"/>
            </a:xfrm>
          </p:grpSpPr>
          <p:sp>
            <p:nvSpPr>
              <p:cNvPr id="179" name=""/>
              <p:cNvSpPr/>
              <p:nvPr/>
            </p:nvSpPr>
            <p:spPr>
              <a:xfrm>
                <a:off x="4495680" y="480060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638320" y="480060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014800" y="480060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7315200" y="2276640"/>
            <a:ext cx="60948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3571920"/>
            <a:ext cx="60948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91320" y="4876920"/>
            <a:ext cx="60948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82520" y="6010200"/>
            <a:ext cx="29786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(n1, n2, n3, …. ) =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13280" y="-100080"/>
            <a:ext cx="57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ftware Tools for Seque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920" y="549360"/>
            <a:ext cx="2863800" cy="7038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abase Similarity Sear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03800" y="539640"/>
            <a:ext cx="227628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WW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1"/>
          </p:cNvPr>
          <p:cNvSpPr/>
          <p:nvPr/>
        </p:nvSpPr>
        <p:spPr>
          <a:xfrm>
            <a:off x="224280" y="2849400"/>
            <a:ext cx="15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MPs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98920" y="143820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9933"/>
                </a:solidFill>
                <a:latin typeface="Arial"/>
              </a:rPr>
              <a:t>Fully sens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98920" y="2301840"/>
            <a:ext cx="39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9933"/>
                </a:solidFill>
                <a:latin typeface="Arial"/>
              </a:rPr>
              <a:t>Slow algorithm – fast comp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8920" y="32446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9933"/>
                </a:solidFill>
                <a:latin typeface="Arial"/>
              </a:rPr>
              <a:t>Protein V Protein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98920" y="4130640"/>
            <a:ext cx="34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9933"/>
                </a:solidFill>
                <a:latin typeface="Arial"/>
              </a:rPr>
              <a:t>Major use when blast/fasta f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98920" y="497844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Exclusively a WWW re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100600" y="2325600"/>
            <a:ext cx="532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 u="sng">
                <a:solidFill>
                  <a:srgbClr val="ff3300"/>
                </a:solidFill>
                <a:uFillTx/>
                <a:latin typeface="Monotype Corsiva"/>
              </a:rPr>
              <a:t>The End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4T21:27:54Z</dcterms:created>
  <dc:creator>Judge</dc:creator>
  <dc:description/>
  <dc:language>en-US</dc:language>
  <cp:lastModifiedBy>David Philip Judge</cp:lastModifiedBy>
  <dcterms:modified xsi:type="dcterms:W3CDTF">2004-06-29T12:01:24Z</dcterms:modified>
  <cp:revision>3</cp:revision>
  <dc:subject/>
  <dc:title>PowerPoint Presentation</dc:title>
</cp:coreProperties>
</file>